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F4F6-1918-4EB1-89CB-524EC10DA32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88C4-BF72-4CFE-B0C9-A421B97A4F8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4BA8-BA50-4292-B528-B8F1C52D350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D6B1-3A4E-497B-9FA2-810AAFDCD07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3CEBB-BD27-4952-9D8C-84CF126FD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DAD4D-FCC3-4854-B3AD-5A0FAA6BF3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1E721-F7C7-4F08-853C-C90E34291A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42871-04CF-48F7-A9DD-A87D5C6FD6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0C892-DEF2-458C-89FA-7B181BE6A9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B90DA-020A-4F2D-A3C4-CB19867D0C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B2FCF-B042-4C4F-93BA-A8B142BF7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616E5-5BC4-434E-BD20-E079BABDD8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28611-31B5-492D-937D-74EC15E4C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2FEB6-B742-468B-A0FC-4E6C3C09AB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30ED7-CD01-4545-B888-F48E2757EA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9C2DF-8D26-465F-AD55-8FD050F978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1" descr="proex"/>
          <p:cNvPicPr/>
          <p:nvPr/>
        </p:nvPicPr>
        <p:blipFill>
          <a:blip r:embed="rId2"/>
          <a:stretch/>
        </p:blipFill>
        <p:spPr>
          <a:xfrm>
            <a:off x="0" y="1033560"/>
            <a:ext cx="5580000" cy="5278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topo"/>
          <p:cNvPicPr/>
          <p:nvPr/>
        </p:nvPicPr>
        <p:blipFill>
          <a:blip r:embed="rId3"/>
          <a:stretch/>
        </p:blipFill>
        <p:spPr>
          <a:xfrm>
            <a:off x="0" y="6318360"/>
            <a:ext cx="9144000" cy="53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3924360" y="6337080"/>
            <a:ext cx="127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CE26-4944-4CDC-ABA0-293D49A37081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6" descr="topo2"/>
          <p:cNvPicPr/>
          <p:nvPr/>
        </p:nvPicPr>
        <p:blipFill>
          <a:blip r:embed="rId4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8" descr="LogoUfscar"/>
          <p:cNvPicPr/>
          <p:nvPr/>
        </p:nvPicPr>
        <p:blipFill>
          <a:blip r:embed="rId5"/>
          <a:stretch/>
        </p:blipFill>
        <p:spPr>
          <a:xfrm>
            <a:off x="179280" y="9360"/>
            <a:ext cx="1440000" cy="1049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" name="Picture 20" descr="Logo ProEx Novo"/>
          <p:cNvPicPr/>
          <p:nvPr/>
        </p:nvPicPr>
        <p:blipFill>
          <a:blip r:embed="rId6"/>
          <a:stretch/>
        </p:blipFill>
        <p:spPr>
          <a:xfrm>
            <a:off x="7020000" y="189000"/>
            <a:ext cx="1908000" cy="72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5"/>
          <p:cNvSpPr/>
          <p:nvPr/>
        </p:nvSpPr>
        <p:spPr>
          <a:xfrm>
            <a:off x="0" y="1268280"/>
            <a:ext cx="91440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79280" y="141300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Rounded MT Bold"/>
              </a:rPr>
              <a:t>UNIVERSIDADE FEDERAL DE SÃO CAR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Rounded MT Bold"/>
              </a:rPr>
              <a:t>PRÓ-REITORIA DE EXTENS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0" y="458136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Prestação de Co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topo"/>
          <p:cNvPicPr/>
          <p:nvPr/>
        </p:nvPicPr>
        <p:blipFill>
          <a:blip r:embed="rId1"/>
          <a:stretch/>
        </p:blipFill>
        <p:spPr>
          <a:xfrm>
            <a:off x="0" y="6318360"/>
            <a:ext cx="9144000" cy="53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topo2"/>
          <p:cNvPicPr/>
          <p:nvPr/>
        </p:nvPicPr>
        <p:blipFill>
          <a:blip r:embed="rId2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LogoUfscar"/>
          <p:cNvPicPr/>
          <p:nvPr/>
        </p:nvPicPr>
        <p:blipFill>
          <a:blip r:embed="rId3"/>
          <a:stretch/>
        </p:blipFill>
        <p:spPr>
          <a:xfrm>
            <a:off x="179280" y="115920"/>
            <a:ext cx="2016360" cy="1468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Logo ProEx Novo2"/>
          <p:cNvPicPr/>
          <p:nvPr/>
        </p:nvPicPr>
        <p:blipFill>
          <a:blip r:embed="rId4"/>
          <a:stretch/>
        </p:blipFill>
        <p:spPr>
          <a:xfrm>
            <a:off x="2124000" y="2276640"/>
            <a:ext cx="4734000" cy="1800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6264360" y="630864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Rounded MT Bold"/>
              </a:rPr>
              <a:t>CoEx – 21/03/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tângulo 3"/>
          <p:cNvSpPr/>
          <p:nvPr/>
        </p:nvSpPr>
        <p:spPr>
          <a:xfrm>
            <a:off x="395280" y="2133720"/>
            <a:ext cx="7632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onte de Recurs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rçamentário UFS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QV   – Recursos Próprio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$   40.32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13  – Atividades de Extensã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$ 517.44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11  – Atividades Culturai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$ 152.320,00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ub-total de Recursos Próprio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R$  710.08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do de Equalização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$   512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$ 1.222.08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[* recursos gerados em 2012 pelo Fundo de Equalização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RÇAMENTO PROEX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RÇAMENTO PROEX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79320" y="3060720"/>
            <a:ext cx="778536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47"/>
          <p:cNvSpPr/>
          <p:nvPr/>
        </p:nvSpPr>
        <p:spPr>
          <a:xfrm>
            <a:off x="2068560" y="404640"/>
            <a:ext cx="37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GASTOS COM RECURSOS 201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39"/>
          <p:cNvSpPr/>
          <p:nvPr/>
        </p:nvSpPr>
        <p:spPr>
          <a:xfrm>
            <a:off x="5645520" y="6381720"/>
            <a:ext cx="31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Fonte: Setor Administrativo ProEx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39640" y="1268280"/>
          <a:ext cx="8425080" cy="4238640"/>
        </p:xfrm>
        <a:graphic>
          <a:graphicData uri="http://schemas.openxmlformats.org/drawingml/2006/table">
            <a:tbl>
              <a:tblPr/>
              <a:tblGrid>
                <a:gridCol w="2808360"/>
                <a:gridCol w="1440000"/>
                <a:gridCol w="1512720"/>
                <a:gridCol w="1079640"/>
                <a:gridCol w="1584360"/>
              </a:tblGrid>
              <a:tr h="878040"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PO DE ATIVID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BUÍDO (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STO (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DO (R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LAÇÃO GASTO/  REC. DISTRIBUÍ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IVIDADES CULTUR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.6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.657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942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6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IVIDADES DE EXTENSÃ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.024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.380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644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,8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IEPEs 1º semest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65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223,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26,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3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IEPEs 2º semest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827,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119,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707,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7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88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GRAMA QUALIDADE DE VI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6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6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,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ENTOS 1º semest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88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563,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16,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ENTOS 2º semest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329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865,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63,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,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QV_ Cultural temático/  (2. semestr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879,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120,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4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68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EX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.765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042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722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,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EX MULTICAMP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25,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74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.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5.076,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5.321,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.754,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99"/>
          <p:cNvSpPr/>
          <p:nvPr/>
        </p:nvSpPr>
        <p:spPr>
          <a:xfrm>
            <a:off x="3362760" y="47628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GASTOS COM BOLSAS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00"/>
          <p:cNvSpPr/>
          <p:nvPr/>
        </p:nvSpPr>
        <p:spPr>
          <a:xfrm>
            <a:off x="5718240" y="6381720"/>
            <a:ext cx="31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Fonte: Setor Administrativo ProEx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79280" y="1268280"/>
          <a:ext cx="8713800" cy="4761000"/>
        </p:xfrm>
        <a:graphic>
          <a:graphicData uri="http://schemas.openxmlformats.org/drawingml/2006/table">
            <a:tbl>
              <a:tblPr/>
              <a:tblGrid>
                <a:gridCol w="2737080"/>
                <a:gridCol w="1655640"/>
                <a:gridCol w="1584360"/>
                <a:gridCol w="1224000"/>
                <a:gridCol w="1512720"/>
              </a:tblGrid>
              <a:tr h="110016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PO ATIVID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BUÍ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R$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S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R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R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LAÇÃO GASTO/ RECURSOS DISTRIBUÍ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IVIDADES CULTURA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.4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.36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04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320">
                <a:tc>
                  <a:txBody>
                    <a:bodyPr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IVIDADES DE EXTENS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3.68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3.92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76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IEPEs 1º semest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08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8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680">
                <a:tc>
                  <a:txBody>
                    <a:bodyPr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IEPEs 2º semest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64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28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6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2600">
                <a:tc>
                  <a:txBody>
                    <a:bodyPr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GRAMA QUALIDADE DE VID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320">
                <a:tc>
                  <a:txBody>
                    <a:bodyPr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2.8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0.96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.84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34"/>
          <p:cNvSpPr/>
          <p:nvPr/>
        </p:nvSpPr>
        <p:spPr>
          <a:xfrm>
            <a:off x="5573880" y="6381720"/>
            <a:ext cx="31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Fonte: Setor Administrativo ProEx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35"/>
          <p:cNvSpPr/>
          <p:nvPr/>
        </p:nvSpPr>
        <p:spPr>
          <a:xfrm>
            <a:off x="3351240" y="260280"/>
            <a:ext cx="205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GASTOS TOT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84360" y="1557360"/>
          <a:ext cx="7991280" cy="4105080"/>
        </p:xfrm>
        <a:graphic>
          <a:graphicData uri="http://schemas.openxmlformats.org/drawingml/2006/table">
            <a:tbl>
              <a:tblPr/>
              <a:tblGrid>
                <a:gridCol w="2230200"/>
                <a:gridCol w="2089080"/>
                <a:gridCol w="1872000"/>
                <a:gridCol w="1800000"/>
              </a:tblGrid>
              <a:tr h="65880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PO DE DESPE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BUÍDO (R$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STOS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$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DO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$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UR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5.076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5.321,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.754,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L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2.8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0.96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.84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27.876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6,281,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.594,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08"/>
          <p:cNvSpPr/>
          <p:nvPr/>
        </p:nvSpPr>
        <p:spPr>
          <a:xfrm>
            <a:off x="5789880" y="6381720"/>
            <a:ext cx="31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Fonte: Setor Administrativo ProEx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9"/>
          <p:cNvSpPr/>
          <p:nvPr/>
        </p:nvSpPr>
        <p:spPr>
          <a:xfrm>
            <a:off x="2050920" y="404640"/>
            <a:ext cx="48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GASTOS POR FONTE DE RECE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68360" y="1341360"/>
          <a:ext cx="8280360" cy="4568760"/>
        </p:xfrm>
        <a:graphic>
          <a:graphicData uri="http://schemas.openxmlformats.org/drawingml/2006/table">
            <a:tbl>
              <a:tblPr/>
              <a:tblGrid>
                <a:gridCol w="2836800"/>
                <a:gridCol w="1994040"/>
                <a:gridCol w="1763640"/>
                <a:gridCol w="1685880"/>
              </a:tblGrid>
              <a:tr h="83196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PO FO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OCAÇÃO (R$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STOS (R$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DO (R$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632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NDO DE EQUALIZ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5.879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.120,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596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URSOS PRÓPRIOS/ RT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0.08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0.402,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77,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22.08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6.281,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5.798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9"/>
          <p:cNvSpPr/>
          <p:nvPr/>
        </p:nvSpPr>
        <p:spPr>
          <a:xfrm>
            <a:off x="5718240" y="6381720"/>
            <a:ext cx="31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Fonte: Setor Administrativo ProEx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ecursos concedidos pela PROE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2008-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913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5"/>
          <p:cNvSpPr/>
          <p:nvPr/>
        </p:nvSpPr>
        <p:spPr>
          <a:xfrm>
            <a:off x="0" y="1268280"/>
            <a:ext cx="91440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topo"/>
          <p:cNvPicPr/>
          <p:nvPr/>
        </p:nvPicPr>
        <p:blipFill>
          <a:blip r:embed="rId1"/>
          <a:stretch/>
        </p:blipFill>
        <p:spPr>
          <a:xfrm>
            <a:off x="0" y="6318360"/>
            <a:ext cx="9144000" cy="53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topo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7" descr="Logo ProEx Novo2"/>
          <p:cNvPicPr/>
          <p:nvPr/>
        </p:nvPicPr>
        <p:blipFill>
          <a:blip r:embed="rId3"/>
          <a:stretch/>
        </p:blipFill>
        <p:spPr>
          <a:xfrm>
            <a:off x="282600" y="1341360"/>
            <a:ext cx="8332920" cy="31672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6264360" y="630864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Rounded MT Bold"/>
              </a:rPr>
              <a:t>CoEx – 21/03/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03:36:38Z</dcterms:created>
  <dc:creator>Zorzo</dc:creator>
  <dc:description/>
  <dc:language>en-US</dc:language>
  <cp:lastModifiedBy>User</cp:lastModifiedBy>
  <cp:lastPrinted>2013-03-21T11:19:43Z</cp:lastPrinted>
  <dcterms:modified xsi:type="dcterms:W3CDTF">2014-03-31T13:08:18Z</dcterms:modified>
  <cp:revision>60</cp:revision>
  <dc:subject/>
  <dc:title>Slide 1</dc:title>
</cp:coreProperties>
</file>