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7A17-4ED8-4160-AA8B-F26136E926A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57D0-7C11-4ED8-AE24-A1F56A93B54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78BC-8902-4DF5-8824-35ED52350B1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926C-E147-441B-81A8-C48F3E6B2E6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CA7-0A68-43B6-B508-D40272AC0E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5026-D4B6-49AC-8532-67CEAC2EC79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638A-6956-4ABC-B183-56F3502676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E516-12AB-4D61-8EA3-36AEFEFBE1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8F6-F6C4-42F2-BBF0-A4E386F7FF9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76DC-9710-4E9B-B2C0-49D1364C14B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5A9-AD7D-4684-8EAC-459D532A56A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23F-C763-4A1D-869D-279B214DC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B14B-C340-4552-93AA-63FD03C85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A4F0-D287-48F2-862C-A48B916F9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FF89-C717-46E3-BA22-728FB5403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78D6-6796-4F5E-BCDA-69941D5A3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EC00-86A9-4AFD-98A3-6F2A40A60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E03C-F0DC-4372-8D2E-88EAD3058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D72A-4E2D-4831-976C-1C9A2499F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E8CB-8D77-4AFC-AEB1-58ABF2882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0A16-D023-4737-BDA0-6F0531380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AD71-2CB5-4BB3-AA9F-3BE757B66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C67D-4713-4CEE-B753-A59E3F88A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C7BA-9921-4AD9-8C10-40326D9B231D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OPOSTA ORÇAMENT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1692360" y="2276640"/>
            <a:ext cx="5165640" cy="196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0/03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3"/>
          <p:cNvSpPr/>
          <p:nvPr/>
        </p:nvSpPr>
        <p:spPr>
          <a:xfrm>
            <a:off x="324000" y="2133720"/>
            <a:ext cx="820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Fonte de Recurs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rçamentário UFSCar (RP/RT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QV – Recursos Próprios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R$    43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R13 – Atividades de Extensão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R$  531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R11 – Atividades Culturais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R$  153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R 24 - Cursinho Valor                                                                                             R$  160.76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usteio (núcleos, secretarias, viagens, xerox, telefone  correio...)             R$ 135.064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Sub-total de </a:t>
            </a:r>
            <a:r>
              <a:rPr b="1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RP/RTN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$   1022.824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ntigo Fundo de Equalização (retribuição):                                                        * R$  535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TOTAL -  R$ 1.557.824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[* recursos gerados em 2013: retribuição à UFSCa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ÇAMENTO PROEX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tângulo 3"/>
          <p:cNvSpPr/>
          <p:nvPr/>
        </p:nvSpPr>
        <p:spPr>
          <a:xfrm>
            <a:off x="179280" y="1628640"/>
            <a:ext cx="885672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          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Qualidade de Vida    R$    5.999,00      R$    24.000,00     R$      29.999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de Extensão             R$ 117.970,76     R$  352.320,00     R$    470.290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Culturais                   R$ 132,916,80     R$   61.440,00     R$     194.356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1º semestre/2013           R$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40.739,02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$  58.560,00     R$        99.299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2º semestre/2013           R$         -              R$             -        R$       10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1º semestre/2013         R$   50.299,90     R$              -        R$        50.229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2º semestre/2013         R$         -                               -          R$       5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ulticamp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Lagoa do Sino, Sorocaba e Araras)                   R$       1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Especiais (Rondon)                                                R$       1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Custei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viagens, secretaria, xerox, telefone, correios)       R$       9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Núcleos de Extensão                                                             R$       28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sinho Pré vestibular   (recurso PROAD)                                        R$     160.76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mento no valor das Bolsas de Extensão    (R$ 266,66)                  R$       62.56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R$ 1.355.495,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653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osta de Distribuição dos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544760" y="2826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RÇAMENTO PROEX 201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talhamento do Custe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16000" y="1844640"/>
          <a:ext cx="6672240" cy="3888000"/>
        </p:xfrm>
        <a:graphic>
          <a:graphicData uri="http://schemas.openxmlformats.org/drawingml/2006/table">
            <a:tbl>
              <a:tblPr/>
              <a:tblGrid>
                <a:gridCol w="4492800"/>
                <a:gridCol w="2179440"/>
              </a:tblGrid>
              <a:tr h="268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eza da Desp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R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gens: Diárias e passagens: Fóruns de Pró Reitores, Encontros Nacionais  de extensão, AUG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ia (despesas com papelaria e almoxarifa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46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ero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e (inclui Proex, Núcleo escola, demais Núcleos de Extensã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ios (predominantemente documentação de projet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2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utros pro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entivo Disseminação e Difusão R$    10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mória                                          R$    15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questra                                        R$    50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TAL                                            R$ 75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362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geral dos gastos –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 total 1         R$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1.355.495,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 total 2         R$            75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$ 1.430.495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rçamento de R$ 1.557.824,00  gerou  Saldo R$ 127.328,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 Estimativa de 2013 gerou um Saldo de bolsas e projetos da ordem de R$ 152.975,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JETO TEMÁTICOS DE EXTENS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o 2014 -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$ 127.328,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ldo remanescentes de Editais R$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$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52.975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$ 280.303,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0/03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24000" y="1700280"/>
          <a:ext cx="8351640" cy="4184640"/>
        </p:xfrm>
        <a:graphic>
          <a:graphicData uri="http://schemas.openxmlformats.org/drawingml/2006/table">
            <a:tbl>
              <a:tblPr/>
              <a:tblGrid>
                <a:gridCol w="1158840"/>
                <a:gridCol w="1212840"/>
                <a:gridCol w="1212840"/>
                <a:gridCol w="1299960"/>
                <a:gridCol w="1114560"/>
                <a:gridCol w="1273320"/>
                <a:gridCol w="107928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02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.31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23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99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41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558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3.6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.8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.4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.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.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.70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2.19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.67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.59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.21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158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 de Extensão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 Culturais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700280"/>
          <a:ext cx="8569440" cy="4552920"/>
        </p:xfrm>
        <a:graphic>
          <a:graphicData uri="http://schemas.openxmlformats.org/drawingml/2006/table">
            <a:tbl>
              <a:tblPr/>
              <a:tblGrid>
                <a:gridCol w="1268640"/>
                <a:gridCol w="1265040"/>
                <a:gridCol w="1265400"/>
                <a:gridCol w="1306440"/>
                <a:gridCol w="1192320"/>
                <a:gridCol w="1136520"/>
                <a:gridCol w="113508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1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.7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8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4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71680" y="1916280"/>
          <a:ext cx="8064360" cy="408600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251000"/>
                <a:gridCol w="1150920"/>
                <a:gridCol w="1101600"/>
                <a:gridCol w="1212840"/>
                <a:gridCol w="1214640"/>
              </a:tblGrid>
              <a:tr h="91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97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55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8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73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81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355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8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539640" y="1125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IEPE – 1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mestre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2205000"/>
          <a:ext cx="8351640" cy="4032360"/>
        </p:xfrm>
        <a:graphic>
          <a:graphicData uri="http://schemas.openxmlformats.org/drawingml/2006/table">
            <a:tbl>
              <a:tblPr/>
              <a:tblGrid>
                <a:gridCol w="1224000"/>
                <a:gridCol w="1243080"/>
                <a:gridCol w="1112760"/>
                <a:gridCol w="1116000"/>
                <a:gridCol w="1254240"/>
                <a:gridCol w="1155600"/>
                <a:gridCol w="124596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27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4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41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78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7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467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4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17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8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IEPE – 2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mestre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74560" y="1628640"/>
          <a:ext cx="8101080" cy="4488120"/>
        </p:xfrm>
        <a:graphic>
          <a:graphicData uri="http://schemas.openxmlformats.org/drawingml/2006/table">
            <a:tbl>
              <a:tblPr/>
              <a:tblGrid>
                <a:gridCol w="1143000"/>
                <a:gridCol w="1198800"/>
                <a:gridCol w="1198440"/>
                <a:gridCol w="1200240"/>
                <a:gridCol w="1160280"/>
                <a:gridCol w="1121040"/>
                <a:gridCol w="1079280"/>
              </a:tblGrid>
              <a:tr h="106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92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.3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6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28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6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Qualidade de Vida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133720"/>
          <a:ext cx="8569080" cy="4319640"/>
        </p:xfrm>
        <a:graphic>
          <a:graphicData uri="http://schemas.openxmlformats.org/drawingml/2006/table">
            <a:tbl>
              <a:tblPr/>
              <a:tblGrid>
                <a:gridCol w="2070000"/>
                <a:gridCol w="1612800"/>
                <a:gridCol w="1613160"/>
                <a:gridCol w="1695240"/>
                <a:gridCol w="1577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1º semes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4.88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7.7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6.712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2º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32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5.7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13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0.2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3.4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.84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s Acadêmicos (R$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 2008 até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AT6\Desktop\GRAFICO.JPG"/>
          <p:cNvPicPr/>
          <p:nvPr/>
        </p:nvPicPr>
        <p:blipFill>
          <a:blip r:embed="rId2"/>
          <a:stretch/>
        </p:blipFill>
        <p:spPr>
          <a:xfrm>
            <a:off x="142920" y="1268280"/>
            <a:ext cx="8605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337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TRIBUIÇÃO DE RECURSOS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2480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lbertus Medium"/>
              </a:rPr>
              <a:t>R$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862.064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lbertus Medium"/>
              </a:rPr>
              <a:t>para programas de extensão (RP/RT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lbertus Medium"/>
              </a:rPr>
              <a:t>R$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535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lbertus Medium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Albertus Medium"/>
              </a:rPr>
              <a:t>Retribuição / Antigo Fundo de Eq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00720" y="2205000"/>
          <a:ext cx="4105080" cy="2938680"/>
        </p:xfrm>
        <a:graphic>
          <a:graphicData uri="http://schemas.openxmlformats.org/drawingml/2006/table">
            <a:tbl>
              <a:tblPr/>
              <a:tblGrid>
                <a:gridCol w="447480"/>
                <a:gridCol w="3657600"/>
              </a:tblGrid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13 - Programa de Apoio a Atividades de Exten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 11 - Programa de Apoio a Atividades Cultu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QV - Programa Qualidade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User</cp:lastModifiedBy>
  <cp:lastPrinted>2013-03-20T19:16:37Z</cp:lastPrinted>
  <dcterms:modified xsi:type="dcterms:W3CDTF">2014-03-31T13:07:58Z</dcterms:modified>
  <cp:revision>68</cp:revision>
  <dc:subject/>
  <dc:title>Slide 1</dc:title>
</cp:coreProperties>
</file>